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827-5D59-4A19-A9B9-8C7718DA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4CB-9FCE-4198-B0D1-0FE7941B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C08-B0C2-4A0D-AA75-AFBF2F33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6F8-205B-4E30-B144-ADEA097F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957-9775-49D8-A5D9-BD78C80C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C578-8048-48E6-9863-6C7100E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E00-A0E0-4655-971E-62F6AD6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96F3-D6B5-46C4-9705-BADC1522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38D-B500-472C-9459-FFF04934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8DC8-E16D-41CF-B750-C9E1DB69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DC3-5387-443C-ADA2-2909BBA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116-0DD4-47E8-95B4-BABB1C6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51A0-0E77-4534-A2B6-BCAAF23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A0F-FF45-43ED-9540-BF0EC7F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72B-DA38-41D5-A876-172B528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AEAC-EB70-4754-9529-50E33A48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8DE3-A52F-42BD-86D2-A8DF9F7B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EDD-1ACF-43EA-B450-FB17FB1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BFD-05B6-48E3-ACC6-63201B17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EE0-D1A1-4E14-A9BC-3880DC3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13D-69B1-4820-804B-8C2E7B94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76D-BAEA-465C-917C-C64D9C7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B2C-3AEE-4DE2-91FA-814C941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B91-6757-4A61-8C5F-8C2A03D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ED94-8FF7-4A62-8D45-D724E83186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3DF-82AC-416F-8905-3F78824F576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A21-2515-4F12-8978-D70C3708FC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66"/>
                </a:solidFill>
                <a:latin typeface="Arial"/>
              </a:rPr>
              <a:t>Monitoring and Evaluating Employee Wellness 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6" descr="hr_software_icon.jpg"/>
          <p:cNvPicPr/>
          <p:nvPr/>
        </p:nvPicPr>
        <p:blipFill>
          <a:blip r:embed="rId1"/>
          <a:stretch/>
        </p:blipFill>
        <p:spPr>
          <a:xfrm>
            <a:off x="4492800" y="2492280"/>
            <a:ext cx="3392280" cy="23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C982-BF28-4C9B-90F4-EA20EE99A6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09008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valuation proced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et measurable goals and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cide the evaluation information needed by company and employ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olve how data will be coll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o will analys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cide when to conduct the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velop surveys and record keeping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port on the evaluation- 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</a:rPr>
              <a:t>make recommend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75D-F72F-4E75-93E7-B4BF18E6D2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to evalu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duced risk fa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articipant satisf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articipa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Effects on co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orkers compensa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Absenteeism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</a:rPr>
              <a:t>Corporate culture improv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orkplac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erceptions of health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urnover/ attraction/ retention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valuation of PEP should focus on initially what was done and how it was done, what was successful and what wasn’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edback from participants, including changes in health and fitness behaviour, needs to be collected and analys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udent activ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hat approaches can be used to evaluate project effectiveness and who should be informed about the outcomes of the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ow can project management experience be used as a basis for continuous impro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3D03-04D0-4E38-86E5-43FA69336A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26560" y="234936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Case study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Content Placeholder 6" descr="852978-archibald-prize-2011.jpg"/>
          <p:cNvPicPr/>
          <p:nvPr/>
        </p:nvPicPr>
        <p:blipFill>
          <a:blip r:embed="rId1"/>
          <a:stretch/>
        </p:blipFill>
        <p:spPr>
          <a:xfrm>
            <a:off x="4991040" y="2755800"/>
            <a:ext cx="3924360" cy="294660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3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2CE-F016-4BBC-8531-A66638CCBC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F555-930F-45CB-BB4A-7822D60F0A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Jazzing it up for next time</a:t>
            </a:r>
            <a:r>
              <a:rPr b="1" lang="en-AU" sz="3600" spc="-1" strike="noStrike">
                <a:solidFill>
                  <a:srgbClr val="006666"/>
                </a:solidFill>
                <a:latin typeface="Times New Roman"/>
              </a:rPr>
              <a:t>…</a:t>
            </a: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6" descr="Continuous_Improv_diagram.jpg"/>
          <p:cNvPicPr/>
          <p:nvPr/>
        </p:nvPicPr>
        <p:blipFill>
          <a:blip r:embed="rId1"/>
          <a:stretch/>
        </p:blipFill>
        <p:spPr>
          <a:xfrm>
            <a:off x="1692360" y="2349360"/>
            <a:ext cx="4498920" cy="446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ontinuous.bmp"/>
          <p:cNvPicPr/>
          <p:nvPr/>
        </p:nvPicPr>
        <p:blipFill>
          <a:blip r:embed="rId2"/>
          <a:stretch/>
        </p:blipFill>
        <p:spPr>
          <a:xfrm>
            <a:off x="6372360" y="4095720"/>
            <a:ext cx="267156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236-81CF-4048-84A3-A5611EC101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Monitoring progress during the proj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gular status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entrally located planning calend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Widely distributed meeting min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erformance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romoting team member 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629B-1DEC-41CA-AB0A-72A8DD146B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racking the prog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43180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s project where it needs to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tasks/cost exceeding estimates and dur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more resources requir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re there major/minor varian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nalyse the status of each project delive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solve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A3C-A697-4046-BEC6-AE347E80ED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Benefits of evaluat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o see if intervention work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monstrates cost /benefit of intervention- was it worth the cos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mpare different types of programs eg did you meet industry standards for quit smoking program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ive feedback (and inspiration to oth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o gain info which could be used for press releases, publicity, shareholder reports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F0B-1A10-4B93-AA03-8E9F962CA2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he key to effective evaluation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Develop the tools for evaluation while you are planning for the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nitially the evaluation can be done on the short term results eg </a:t>
            </a:r>
            <a:r>
              <a:rPr b="0" lang="en-AU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did you participate and what you got out of it?</a:t>
            </a:r>
            <a:r>
              <a:rPr b="0" lang="en-AU" sz="28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and as programs expand or develop measuring longer term results such as retention , absenteeism , sick leave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you are measur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f goals have been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f funds have been spent efficien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imelines were accurate and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Content Placeholder 7" descr="Brand_ID_icon2.gif"/>
          <p:cNvPicPr/>
          <p:nvPr/>
        </p:nvPicPr>
        <p:blipFill>
          <a:blip r:embed="rId1"/>
          <a:stretch/>
        </p:blipFill>
        <p:spPr>
          <a:xfrm>
            <a:off x="4932360" y="2781360"/>
            <a:ext cx="3095640" cy="347004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249-325E-4A09-BC64-15AE4CAF1B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009E-7522-4C7F-8BF5-E18C2E0B22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02852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valuations al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art the success and progress  of the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rovide feedback for better budgeting, ti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Give opportunities to review program content and presenters, training, communication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FF74-281A-4CA7-8B20-FF2C1EBB29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Agenda for final project team mee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erformance (work scope, quality, managing chang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st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chedule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ject planning and contr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takeholder/sponsor/client relation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ommunication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roblem identification and res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commendations for future projects  - continuous impro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046-BB40-4596-837B-0C9C42BF4A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ich of the following apply in your cas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My company evaluation will need 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the cost of the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ich programs are most eff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which programs are least eff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Determine if the program met its go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Justify past and future expendi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Justify expa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2:37:20Z</dcterms:created>
  <dc:creator>Stephen Ford</dc:creator>
  <dc:description/>
  <dc:language>en-US</dc:language>
  <cp:lastModifiedBy>John</cp:lastModifiedBy>
  <dcterms:modified xsi:type="dcterms:W3CDTF">2011-10-24T23:30:17Z</dcterms:modified>
  <cp:revision>8</cp:revision>
  <dc:subject/>
  <dc:title>Monitoring and Evaluating Employee Wellness Programs</dc:title>
</cp:coreProperties>
</file>